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85B-C648-4599-BEA4-1A8B6D1A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9BC5-4F1D-4BB5-84D0-10EEF926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0EF0-E089-467B-90F4-A6E6D336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7014-2571-4960-B0A1-8C10F326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FD92-B0B2-4B89-A67B-834AF1BA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FD1-B29E-4904-814C-83A06410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D60F-ED36-45AF-A31B-6AD2260E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5000-46C9-4C59-B9D8-3B1DCFA7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2A7-F114-427F-82BD-50AD78B6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1FC9-EAFC-4758-B2A5-491C9B1A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3510-4225-4B5A-9502-7763E037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EBE-F40C-4FE3-88D2-7529C26E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F6BD-3275-4205-92F8-9866AEFB2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527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8098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lgamesh took advantage of his power, so the gods sent Enkidu, the wild, hairy beast-man,  to destroy Gilgames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6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04920" y="228600"/>
            <a:ext cx="8305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lgamesh wrestled and defeated Enkidu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559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352520" y="5372280"/>
            <a:ext cx="643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.so they became friend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685800" y="228600"/>
            <a:ext cx="800100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lgamesh and Enkidu killed Humbab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09480" y="152280"/>
            <a:ext cx="7896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lgamesh &amp; the bull of Heav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9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00080" y="6134040"/>
            <a:ext cx="8943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lgamesh weeps at Enkidu's Dea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4:21:12Z</dcterms:created>
  <dc:creator>NPSD</dc:creator>
  <dc:description/>
  <dc:language>en-US</dc:language>
  <cp:lastModifiedBy>NPSD</cp:lastModifiedBy>
  <dcterms:modified xsi:type="dcterms:W3CDTF">2007-10-01T18:14:40Z</dcterms:modified>
  <cp:revision>2</cp:revision>
  <dc:subject/>
  <dc:title>Slide 1</dc:title>
</cp:coreProperties>
</file>